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1ACD-1383-4DC1-97A2-C34AAE7E6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B0D7-878E-4CC3-BFA5-D0E4E9AFC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6859-E7E0-458A-A75B-357D905CF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2FD7-835D-4046-9D00-F7C6FB220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3775-FCD6-4536-89CE-5C9FE84A6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43F5-796E-4A34-AB6E-1B77B463E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B1C6-92A2-4765-B63B-A6B3452AA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3724-6523-43C9-B48E-25B175306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7ED6-8519-4CD0-98E1-2AC62BF2C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D28C-6387-4E13-9FFA-BB110C409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9C97-505D-4338-AD51-0E9CE9DA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1B46-DE8A-43E5-B9CD-93CF2F9F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D765A-0E9A-4FBD-9D73-412E27138F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cd4f6d"/>
                </a:solidFill>
                <a:latin typeface="Arial"/>
              </a:rPr>
              <a:t>Révision Parti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L'électricité comporte 2 charges opposées. Peux tu nommer les 2 charg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Que se passe-t-il quand un objet devient &lt;charge&gt;? Fais en l'illustratio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Quels sont les 2 métaux qu'on retrouve dans une pi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Qu'est-ce qu'un électrolyte? Peux-tu nommer quelques exemples courant d'électroly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5.      Combien existe-t-il de circuits? Peux-tu les nomm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Explique (résume) chaque circuit avec des exemp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Peux-tu illustrer le courant électrique d’une pile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j0424466"/>
          <p:cNvPicPr/>
          <p:nvPr/>
        </p:nvPicPr>
        <p:blipFill>
          <a:blip r:embed="rId1"/>
          <a:stretch/>
        </p:blipFill>
        <p:spPr>
          <a:xfrm>
            <a:off x="3429000" y="5105520"/>
            <a:ext cx="1974960" cy="13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15:01:38Z</dcterms:created>
  <dc:creator>nbdoe</dc:creator>
  <dc:description/>
  <dc:language>en-US</dc:language>
  <cp:lastModifiedBy>School District 8</cp:lastModifiedBy>
  <dcterms:modified xsi:type="dcterms:W3CDTF">2012-01-18T17:28:17Z</dcterms:modified>
  <cp:revision>44</cp:revision>
  <dc:subject/>
  <dc:title>L’électricité</dc:title>
</cp:coreProperties>
</file>